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DFA-3E90-4835-A2F8-24A31819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43C-07DE-4F32-B906-8DE26267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684-BE0C-4F53-B70B-27DC524D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2CF-10EC-44DF-953F-C3219508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C58-99ED-4EE7-AABC-CD4F56D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A50-ED3D-46A7-9BD6-B4A64C4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E40-847F-4818-87DF-60FA31F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9CC-E3BC-47C0-9DEC-6E47A5C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052-8618-4E8D-861F-3EE6095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3A3-7CF5-4999-B917-0B15C75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F31-DA01-4FA6-9213-4696090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16C-D6EF-40F5-81B7-14345A85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106B8-0D1D-4A39-8CEC-8038C20701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Congress is Organized to Mak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74-38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ucuses: Informal Organiz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ucu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 group of members of Congress sharing some interest or characteris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300 cauc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cuses pressure for committee meetings and hearings and for votes on bi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cuses can be more effective than lobby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Staf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ersonal Staff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y work for the member, mainly providing constituent service, but help with legislation to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mittee Staff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organize hearings, research and write legislation, target of lobby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taff Agen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CRS, GAO, CBO provide specific information to Congr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Bicameral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he Hou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35 members, 2-year terms of offic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itiates all revenue bills, more influential on budg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House Rules Committ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mited deba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Sen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0 members, 6-year terms of off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ice &amp; consent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re influential on foreign affai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limited debates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ilibuste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Lead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Hou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ed by Speaker of the House—elected by Hous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esides over Hou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jor role in committee assignments and legisl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isted by majority leader and whip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ally lead by Vice Presid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lly lead by Majority Leader—chosen by party memb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isted by w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st work with Minority lea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146160" y="585720"/>
            <a:ext cx="87930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ittees and Subcommitte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tanding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ubject matter committees that handle bills in different policy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Joint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 few subject-matter areas—membership drawn from House and Sena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nference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resolve differences in House and Senate b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lect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created for a specific purpose, such as the Watergate investig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mmittees at 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gisl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mittees work on the 11,000 bills every ses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 hold hearings and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rk up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eeti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Legislative Overs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nitoring of the bureaucracy and its administration of policy through committee heari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 publicity value of receiving credit for controlling spending has increase, so too has oversight grow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versight usually takes place after a catastroph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5"/>
          <p:cNvGrpSpPr/>
          <p:nvPr/>
        </p:nvGrpSpPr>
        <p:grpSpPr>
          <a:xfrm>
            <a:off x="685800" y="714240"/>
            <a:ext cx="8109000" cy="4935600"/>
            <a:chOff x="685800" y="714240"/>
            <a:chExt cx="8109000" cy="4935600"/>
          </a:xfrm>
        </p:grpSpPr>
        <p:sp>
          <p:nvSpPr>
            <p:cNvPr id="55" name="Rectangle 23"/>
            <p:cNvSpPr/>
            <p:nvPr/>
          </p:nvSpPr>
          <p:spPr>
            <a:xfrm>
              <a:off x="685800" y="714240"/>
              <a:ext cx="7696080" cy="487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685800" y="714240"/>
              <a:ext cx="8109000" cy="4935600"/>
              <a:chOff x="685800" y="714240"/>
              <a:chExt cx="8109000" cy="49356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714240"/>
                <a:ext cx="7696080" cy="90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" name="Group 21"/>
              <p:cNvGrpSpPr/>
              <p:nvPr/>
            </p:nvGrpSpPr>
            <p:grpSpPr>
              <a:xfrm>
                <a:off x="685800" y="1628640"/>
                <a:ext cx="8109000" cy="4021200"/>
                <a:chOff x="685800" y="1628640"/>
                <a:chExt cx="8109000" cy="4021200"/>
              </a:xfrm>
            </p:grpSpPr>
            <p:pic>
              <p:nvPicPr>
                <p:cNvPr id="59" name="Picture 11" descr=""/>
                <p:cNvPicPr/>
                <p:nvPr/>
              </p:nvPicPr>
              <p:blipFill>
                <a:blip r:embed="rId2"/>
                <a:srcRect l="0" t="0" r="0" b="510"/>
                <a:stretch/>
              </p:blipFill>
              <p:spPr>
                <a:xfrm>
                  <a:off x="685800" y="1628640"/>
                  <a:ext cx="2778120" cy="189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73240" y="1881000"/>
                  <a:ext cx="2733840" cy="164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3" descr=""/>
                <p:cNvPicPr/>
                <p:nvPr/>
              </p:nvPicPr>
              <p:blipFill>
                <a:blip r:embed="rId4"/>
                <a:srcRect l="0" t="0" r="0" b="27660"/>
                <a:stretch/>
              </p:blipFill>
              <p:spPr>
                <a:xfrm>
                  <a:off x="5643720" y="1879560"/>
                  <a:ext cx="2738160" cy="164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Rectangle 16"/>
                <p:cNvSpPr/>
                <p:nvPr/>
              </p:nvSpPr>
              <p:spPr>
                <a:xfrm>
                  <a:off x="685800" y="1828800"/>
                  <a:ext cx="8093160" cy="90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pic>
              <p:nvPicPr>
                <p:cNvPr id="63" name="Picture 19" descr=""/>
                <p:cNvPicPr/>
                <p:nvPr/>
              </p:nvPicPr>
              <p:blipFill>
                <a:blip r:embed="rId5"/>
                <a:srcRect l="0" t="0" r="5035" b="0"/>
                <a:stretch/>
              </p:blipFill>
              <p:spPr>
                <a:xfrm>
                  <a:off x="4970520" y="3692520"/>
                  <a:ext cx="3411360" cy="195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0" descr=""/>
                <p:cNvPicPr/>
                <p:nvPr/>
              </p:nvPicPr>
              <p:blipFill>
                <a:blip r:embed="rId6"/>
                <a:srcRect l="0" t="0" r="5026" b="0"/>
                <a:stretch/>
              </p:blipFill>
              <p:spPr>
                <a:xfrm>
                  <a:off x="5568840" y="3776760"/>
                  <a:ext cx="23400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8" descr=""/>
                <p:cNvPicPr/>
                <p:nvPr/>
              </p:nvPicPr>
              <p:blipFill>
                <a:blip r:embed="rId7"/>
                <a:srcRect l="0" t="0" r="0" b="2833"/>
                <a:stretch/>
              </p:blipFill>
              <p:spPr>
                <a:xfrm>
                  <a:off x="2900520" y="3684600"/>
                  <a:ext cx="2463480" cy="195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Rectangle 15"/>
                <p:cNvSpPr/>
                <p:nvPr/>
              </p:nvSpPr>
              <p:spPr>
                <a:xfrm>
                  <a:off x="701640" y="3462480"/>
                  <a:ext cx="8093160" cy="28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pic>
              <p:nvPicPr>
                <p:cNvPr id="67" name="Picture 14" descr=""/>
                <p:cNvPicPr/>
                <p:nvPr/>
              </p:nvPicPr>
              <p:blipFill>
                <a:blip r:embed="rId8"/>
                <a:srcRect l="0" t="0" r="4645" b="0"/>
                <a:stretch/>
              </p:blipFill>
              <p:spPr>
                <a:xfrm>
                  <a:off x="687240" y="3489480"/>
                  <a:ext cx="2349720" cy="21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on a Committ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bers want committee assignments that will help them get reelected, gain influence, and make polic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members express their committee preferences to the party lea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se who have supported their part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leadership are favored in the selec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ies try to grant committee prefere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Ahead on a Committ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mittee Chai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most important influencer of congressional agen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minant role in scheduling hearings, hiring staff, appointing subcommittees, and managing committee bills when they are brought before the full 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hairs selected according to seniority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bers who have served on the committee the longest and whose party controlled Congress become cha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4:52:13Z</dcterms:created>
  <dc:creator>madisonk Madison</dc:creator>
  <dc:description/>
  <dc:language>en-US</dc:language>
  <cp:lastModifiedBy>madisonk Madison</cp:lastModifiedBy>
  <dcterms:modified xsi:type="dcterms:W3CDTF">2013-12-13T15:09:24Z</dcterms:modified>
  <cp:revision>3</cp:revision>
  <dc:subject/>
  <dc:title>How Congress Is Organized to Make Policy</dc:title>
</cp:coreProperties>
</file>